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1135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113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9340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7"/>
          </p:nvPr>
        </p:nvSpPr>
        <p:spPr>
          <a:xfrm>
            <a:off x="4030560" y="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97588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5014967-332E-4A71-821F-9512DDFEA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B5231BC-61A6-4474-B4AD-07E265095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FD6E69A-E919-489C-8D79-E94226D32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acronym stan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some background history related to MITRE overview whit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we seeking to formalize?  (validation, versioning, extensibility, adop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003BC33-E38D-43DD-B5DB-8DF431AFE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78B320A-9D60-41F7-92B1-DDCB15CA5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2C5F86F-1DFC-4F65-94AB-BC603C9C7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C92308E-005F-4360-A60F-567BBEAAD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 provides enough information to distinguish one remediation from another (i.e., yes, this is the remediation I am interested in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I provides additional information – possible references, preconditions, known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81A7389-EC3E-4256-A534-B2518D557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D37-40E5-4E07-BBC6-B0CFE8EC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86B-A7DA-4D68-88C8-C9370FA0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177-8B39-4540-AA6D-154C78CD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CDC-3DD3-4AFD-8B5F-9D20E747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D964-DF01-4863-A9A4-581656D3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A599-3E0A-4764-A715-413AD5DB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F1C1-27F5-467A-85A7-7626BF2A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E371-0912-483B-BA27-8D9416AC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90B7-CF2A-4D79-AD54-9196FE5E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0FAB-DD27-4833-9914-0D1664AE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6717-2806-4809-9A00-C99C4046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8F8-EE81-4BC4-BC99-04772594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8B46-AB73-46C8-83AF-C7462AFB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8D74-EEE3-4E14-93DE-2E2841C9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B59A-18B7-412D-A738-8C13D953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0758-2621-4B2F-AEB1-4FE246D3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161F-C2BA-45DE-8E34-6A95CEA8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E5A-3852-4BC0-BEE7-AB397639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CC0-5C44-4338-9210-32390C7B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650-979A-4890-A383-B0E7EFE3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8B5-A09B-4811-BD67-CCDB8BEC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B8A-C2F5-46B4-8261-2067C31A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4DF-0174-4EFA-B557-3C96761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D37-191F-4BE1-A110-0817A93C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1905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D563-F12B-43CC-A00D-2943A47E5F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4344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7481-3F77-4D19-9F01-F8DE8D7C7537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istBlue"/>
          <p:cNvPicPr/>
          <p:nvPr/>
        </p:nvPicPr>
        <p:blipFill>
          <a:blip r:embed="rId2"/>
          <a:stretch/>
        </p:blipFill>
        <p:spPr>
          <a:xfrm>
            <a:off x="8001000" y="152280"/>
            <a:ext cx="990720" cy="35424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7"/>
          <p:cNvSpPr/>
          <p:nvPr/>
        </p:nvSpPr>
        <p:spPr>
          <a:xfrm>
            <a:off x="1447920" y="5562720"/>
            <a:ext cx="624816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" name="Picture 8" descr="nistBlue"/>
          <p:cNvPicPr/>
          <p:nvPr/>
        </p:nvPicPr>
        <p:blipFill>
          <a:blip r:embed="rId2"/>
          <a:stretch/>
        </p:blipFill>
        <p:spPr>
          <a:xfrm>
            <a:off x="3886200" y="5791320"/>
            <a:ext cx="1143000" cy="407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1981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EBA1-D1C1-4F89-B6E9-8410F8ACF4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419360" y="6248520"/>
            <a:ext cx="4268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8629-747B-4FBE-A30B-A9239BBF054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david.waltermire@nist.g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1640" y="3428640"/>
            <a:ext cx="43434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Security Automation Developer Days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June 14-16, 2010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hris Johns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e National Institute of Standards and Technology (NIST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4040" y="1572480"/>
            <a:ext cx="79038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nterprise Remediation Automation Protocol (ERAP)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Other Activ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alidation strateg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endor outreach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sioning of identifier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ing a trust mod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81280" y="652320"/>
            <a:ext cx="72288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ontact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3"/>
                </a:solidFill>
                <a:latin typeface="Arial"/>
              </a:rPr>
              <a:t>Contact Inf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Arial"/>
              </a:rPr>
              <a:t>Christopher Johns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National Institute of Standards and Technolog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hristopher.johnson@nist.gov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Arial"/>
              </a:rPr>
              <a:t>(301) 975-598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540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RAP components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Use Cas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apabil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 Suit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omponent Specifications Roadmap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62240" y="510120"/>
            <a:ext cx="469476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What is ERAP?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pri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di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om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oco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 of individually maintained, community developed, open specifications to provide a standardized approach to maintaining the security of enterprise syste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specifications establish conventions for identifying, describing and orchestrating remediation actions for the enterpris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P defines how these specification are used in concert to deliver capabilities to the security automation communit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standardized reference data -- ERAP Cont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ounded Rectangle 10"/>
          <p:cNvSpPr/>
          <p:nvPr/>
        </p:nvSpPr>
        <p:spPr>
          <a:xfrm>
            <a:off x="304920" y="685800"/>
            <a:ext cx="8610480" cy="5562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ounded Rectangle 9"/>
          <p:cNvSpPr/>
          <p:nvPr/>
        </p:nvSpPr>
        <p:spPr>
          <a:xfrm>
            <a:off x="4572000" y="1295280"/>
            <a:ext cx="2819520" cy="480060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00600"/>
              <a:gd name="textAreaBottom" fmla="*/ 4663080 h 4800600"/>
            </a:gdLst>
            <a:ahLst/>
            <a:rect l="textAreaLeft" t="textAreaTop" r="textAreaRight" b="textAreaBottom"/>
            <a:pathLst>
              <a:path w="21600" h="36775">
                <a:moveTo>
                  <a:pt x="3600" y="0"/>
                </a:moveTo>
                <a:arcTo wR="3600" hR="3600" stAng="16200000" swAng="-5400000"/>
                <a:lnTo>
                  <a:pt x="0" y="33175"/>
                </a:lnTo>
                <a:arcTo wR="3600" hR="3600" stAng="10800000" swAng="-5400000"/>
                <a:lnTo>
                  <a:pt x="18000" y="36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7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1600200" y="1295280"/>
            <a:ext cx="2971800" cy="480060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800600"/>
              <a:gd name="textAreaBottom" fmla="*/ 4655520 h 4800600"/>
            </a:gdLst>
            <a:ahLst/>
            <a:rect l="textAreaLeft" t="textAreaTop" r="textAreaRight" b="textAreaBottom"/>
            <a:pathLst>
              <a:path w="21600" h="34891">
                <a:moveTo>
                  <a:pt x="3600" y="0"/>
                </a:moveTo>
                <a:arcTo wR="3600" hR="3600" stAng="16200000" swAng="-5400000"/>
                <a:lnTo>
                  <a:pt x="0" y="31291"/>
                </a:lnTo>
                <a:arcTo wR="3600" hR="3600" stAng="10800000" swAng="-5400000"/>
                <a:lnTo>
                  <a:pt x="18000" y="3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9393"/>
          </a:solidFill>
          <a:ln w="93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3960" y="38160"/>
            <a:ext cx="8381160" cy="5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RAP Components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828800" y="3200400"/>
            <a:ext cx="2743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chine readable XM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ort resul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chestrate remedi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e machine stat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 Polic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66720" y="3276360"/>
            <a:ext cx="3124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crete remediation action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lemental remediation dat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exchange forma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905120" y="1523880"/>
            <a:ext cx="2514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nguag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ans of expr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ructions/Result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572000" y="1523880"/>
            <a:ext cx="2819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ntions for identifying and describing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Rounded Rectangle 6"/>
          <p:cNvSpPr/>
          <p:nvPr/>
        </p:nvSpPr>
        <p:spPr>
          <a:xfrm>
            <a:off x="533520" y="1600200"/>
            <a:ext cx="3733560" cy="4952880"/>
          </a:xfrm>
          <a:custGeom>
            <a:avLst/>
            <a:gdLst>
              <a:gd name="textAreaLeft" fmla="*/ 182160 w 3733560"/>
              <a:gd name="textAreaRight" fmla="*/ 3551400 w 3733560"/>
              <a:gd name="textAreaTop" fmla="*/ 182160 h 4952880"/>
              <a:gd name="textAreaBottom" fmla="*/ 4770720 h 4952880"/>
            </a:gdLst>
            <a:ahLst/>
            <a:rect l="textAreaLeft" t="textAreaTop" r="textAreaRight" b="textAreaBottom"/>
            <a:pathLst>
              <a:path w="21600" h="28654">
                <a:moveTo>
                  <a:pt x="3600" y="0"/>
                </a:moveTo>
                <a:arcTo wR="3600" hR="3600" stAng="16200000" swAng="-5400000"/>
                <a:lnTo>
                  <a:pt x="0" y="25054"/>
                </a:lnTo>
                <a:arcTo wR="3600" hR="3600" stAng="10800000" swAng="-5400000"/>
                <a:lnTo>
                  <a:pt x="18000" y="28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85800"/>
            <a:ext cx="84582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t of community developed specif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Use Cas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09480" y="1752480"/>
            <a:ext cx="807732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RAP Use Case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omprehens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ll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elect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 subset of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Independent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apply one or more remediations to one or more computing assets regardless of their current stat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905120" y="1828800"/>
          <a:ext cx="5243400" cy="3817800"/>
        </p:xfrm>
        <a:graphic>
          <a:graphicData uri="http://schemas.openxmlformats.org/drawingml/2006/table">
            <a:tbl>
              <a:tblPr/>
              <a:tblGrid>
                <a:gridCol w="1168200"/>
                <a:gridCol w="1484280"/>
                <a:gridCol w="2590920"/>
              </a:tblGrid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Remediation Enum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stablishes a common name and basic information about the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xtended Remediation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tains supplemental information about a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Control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vention for asserting which remediations are to be applied to specific as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Policy Language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Ability to constrain remediation by asset 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format for reporting the results of an attempted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V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pen Vulnerability Remediation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Language for expressing the low level remediation 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Oval 16"/>
          <p:cNvSpPr/>
          <p:nvPr/>
        </p:nvSpPr>
        <p:spPr>
          <a:xfrm>
            <a:off x="609480" y="1828800"/>
            <a:ext cx="2210040" cy="129528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Naming &amp; Describ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609480" y="4952880"/>
            <a:ext cx="2210040" cy="685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_x0012_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Remedia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Oval 21"/>
          <p:cNvSpPr/>
          <p:nvPr/>
        </p:nvSpPr>
        <p:spPr>
          <a:xfrm>
            <a:off x="609480" y="4343400"/>
            <a:ext cx="2210040" cy="631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Report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91200" y="204840"/>
            <a:ext cx="446616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apabil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609480" y="3124080"/>
            <a:ext cx="2210040" cy="121932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Orchest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 Suit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ST will work with the community to develop a set of publications describing these enterprise remediation capabilities.  These publications will be hosted on the NIST Computer Security Resource Center (CSRC) website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Component Specifica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Data Exchange Forma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omponent Specifications Roadmap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Component Specification Roadmap (DRAFT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0: CRE, ERI, Policy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1: Control Language, Resul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2: Remediation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5:24:41Z</dcterms:created>
  <dc:creator/>
  <dc:description/>
  <cp:keywords/>
  <dc:language>en-US</dc:language>
  <cp:lastModifiedBy>sboczeno</cp:lastModifiedBy>
  <cp:lastPrinted>2009-04-22T19:24:48Z</cp:lastPrinted>
  <dcterms:modified xsi:type="dcterms:W3CDTF">2010-06-08T17:15:32Z</dcterms:modified>
  <cp:revision>1052</cp:revision>
  <dc:subject/>
  <dc:title>Security Content Automation Protocol and What It Means to Information Assur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81033</vt:lpwstr>
  </property>
</Properties>
</file>